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3.jpeg" ContentType="image/jpeg"/>
  <Override PartName="/ppt/media/image9.png" ContentType="image/png"/>
  <Override PartName="/ppt/media/image5.png" ContentType="image/png"/>
  <Override PartName="/ppt/media/image8.jpeg" ContentType="image/jpeg"/>
  <Override PartName="/ppt/media/image10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1170936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47640" y="6011640"/>
            <a:ext cx="1170936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571392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647760" y="2628720"/>
            <a:ext cx="571392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647640" y="151920"/>
            <a:ext cx="11709360" cy="942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24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647760" y="2628720"/>
            <a:ext cx="571392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47640" y="601164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571392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64776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647760" y="601164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64776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47640" y="6011640"/>
            <a:ext cx="1170936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1170936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47640" y="6011640"/>
            <a:ext cx="1170936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64776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47640" y="601164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6647760" y="601164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06920" y="262872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8565840" y="262872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47640" y="601164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4606920" y="601164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8565840" y="601164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776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47640" y="601164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7760" y="601164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647640" y="2628720"/>
            <a:ext cx="11709360" cy="64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1170936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571392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6647760" y="2628720"/>
            <a:ext cx="571392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647640" y="151920"/>
            <a:ext cx="11709360" cy="942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24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6647760" y="2628720"/>
            <a:ext cx="571392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47640" y="601164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571392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64776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647760" y="601164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64776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47640" y="6011640"/>
            <a:ext cx="1170936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1170936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47640" y="6011640"/>
            <a:ext cx="1170936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64776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47640" y="601164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6647760" y="601164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6920" y="262872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65840" y="262872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47640" y="601164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06920" y="601164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565840" y="601164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06920" y="262872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8565840" y="262872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647640" y="601164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4606920" y="601164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8565840" y="601164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47640" y="2628720"/>
            <a:ext cx="11709360" cy="64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1170936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571392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647760" y="2628720"/>
            <a:ext cx="571392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647640" y="151920"/>
            <a:ext cx="11709360" cy="942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24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647760" y="2628720"/>
            <a:ext cx="571392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47640" y="601164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571392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64776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647760" y="601164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64776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47640" y="6011640"/>
            <a:ext cx="1170936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1170936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47640" y="6011640"/>
            <a:ext cx="1170936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64776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47640" y="601164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6647760" y="601164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06920" y="262872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8565840" y="262872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647640" y="601164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4606920" y="601164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8565840" y="601164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647640" y="2628720"/>
            <a:ext cx="11709360" cy="64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1170936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571392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647760" y="2628720"/>
            <a:ext cx="571392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647640" y="151920"/>
            <a:ext cx="11709360" cy="942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24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647760" y="2628720"/>
            <a:ext cx="571392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47640" y="601164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47640" y="2628720"/>
            <a:ext cx="11709360" cy="64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571392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4776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647760" y="601164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4776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47640" y="6011640"/>
            <a:ext cx="1170936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1170936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47640" y="6011640"/>
            <a:ext cx="1170936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64776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47640" y="601164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647760" y="601164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06920" y="262872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565840" y="262872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647640" y="601164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4606920" y="601164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8565840" y="601164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647640" y="2628720"/>
            <a:ext cx="11709360" cy="64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1170936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571392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6647760" y="2628720"/>
            <a:ext cx="571392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1170936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647640" y="151920"/>
            <a:ext cx="11709360" cy="942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24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6647760" y="2628720"/>
            <a:ext cx="571392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47640" y="601164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571392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664776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647760" y="601164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64776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47640" y="6011640"/>
            <a:ext cx="1170936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1170936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47640" y="6011640"/>
            <a:ext cx="1170936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64776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47640" y="601164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6647760" y="601164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06920" y="262872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8565840" y="262872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647640" y="601164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4606920" y="601164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8565840" y="601164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571392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47760" y="2628720"/>
            <a:ext cx="571392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47640" y="151920"/>
            <a:ext cx="11709360" cy="942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24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7760" y="2628720"/>
            <a:ext cx="571392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47640" y="601164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47640" y="2628720"/>
            <a:ext cx="11709360" cy="64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571392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4776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47760" y="601164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4776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7640" y="6011640"/>
            <a:ext cx="1170936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1170936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47640" y="6011640"/>
            <a:ext cx="1170936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4776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47640" y="601164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47760" y="601164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06920" y="262872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565840" y="262872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47640" y="601164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606920" y="601164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565840" y="601164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647640" y="2628720"/>
            <a:ext cx="11709360" cy="64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1170936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571392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47760" y="2628720"/>
            <a:ext cx="571392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1170936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647640" y="151920"/>
            <a:ext cx="11709360" cy="942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24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47760" y="2628720"/>
            <a:ext cx="571392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7640" y="601164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571392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4776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47760" y="601164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4776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47640" y="6011640"/>
            <a:ext cx="1170936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1170936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47640" y="6011640"/>
            <a:ext cx="1170936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4776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47640" y="601164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47760" y="601164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06920" y="262872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565840" y="262872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647640" y="601164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606920" y="601164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565840" y="601164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47640" y="2628720"/>
            <a:ext cx="11709360" cy="64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1170936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571392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7760" y="2628720"/>
            <a:ext cx="571392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571392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47760" y="2628720"/>
            <a:ext cx="571392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47640" y="151920"/>
            <a:ext cx="11709360" cy="942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24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47760" y="2628720"/>
            <a:ext cx="571392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47640" y="601164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571392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4776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47760" y="601164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4776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47640" y="6011640"/>
            <a:ext cx="1170936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1170936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47640" y="6011640"/>
            <a:ext cx="1170936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4776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47640" y="601164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47760" y="601164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06920" y="262872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565840" y="262872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47640" y="601164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606920" y="601164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565840" y="601164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647640" y="2628720"/>
            <a:ext cx="11709360" cy="64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1170936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571392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647760" y="2628720"/>
            <a:ext cx="571392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647640" y="151920"/>
            <a:ext cx="11709360" cy="942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24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647760" y="2628720"/>
            <a:ext cx="571392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47640" y="601164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571392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4776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647760" y="601164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64776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47640" y="6011640"/>
            <a:ext cx="1170936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1170936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47640" y="6011640"/>
            <a:ext cx="1170936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64776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47640" y="601164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6647760" y="601164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47640" y="151920"/>
            <a:ext cx="11709360" cy="942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24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06920" y="262872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565840" y="262872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47640" y="601164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4606920" y="601164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8565840" y="601164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47640" y="2628720"/>
            <a:ext cx="11709360" cy="64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1170936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571392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647760" y="2628720"/>
            <a:ext cx="571392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647640" y="151920"/>
            <a:ext cx="11709360" cy="942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24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647760" y="2628720"/>
            <a:ext cx="571392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7640" y="601164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571392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4776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647760" y="601164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64776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47640" y="6011640"/>
            <a:ext cx="1170936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7760" y="2628720"/>
            <a:ext cx="571392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47640" y="601164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1170936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47640" y="6011640"/>
            <a:ext cx="1170936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64776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47640" y="601164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647760" y="601164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06920" y="262872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565840" y="262872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47640" y="601164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4606920" y="601164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8565840" y="601164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47640" y="2628720"/>
            <a:ext cx="11709360" cy="64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1170936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571392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647760" y="2628720"/>
            <a:ext cx="571392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47640" y="151920"/>
            <a:ext cx="11709360" cy="942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24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647760" y="2628720"/>
            <a:ext cx="571392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47640" y="601164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571392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776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7760" y="601164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571392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64776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647760" y="601164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64776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47640" y="6011640"/>
            <a:ext cx="1170936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1170936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47640" y="6011640"/>
            <a:ext cx="1170936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64776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47640" y="601164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6647760" y="601164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06920" y="262872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565840" y="262872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47640" y="601164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4606920" y="601164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8565840" y="601164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647640" y="2628720"/>
            <a:ext cx="11709360" cy="64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1170936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571392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647760" y="2628720"/>
            <a:ext cx="571392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776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47640" y="6011640"/>
            <a:ext cx="1170936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647640" y="151920"/>
            <a:ext cx="11709360" cy="942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24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647760" y="2628720"/>
            <a:ext cx="571392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47640" y="601164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571392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64776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647760" y="601164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64776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47640" y="6011640"/>
            <a:ext cx="1170936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1170936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47640" y="6011640"/>
            <a:ext cx="1170936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647760" y="262872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47640" y="601164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6647760" y="6011640"/>
            <a:ext cx="571392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06920" y="262872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565840" y="262872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47640" y="601164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4606920" y="601164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8565840" y="6011640"/>
            <a:ext cx="3770280" cy="308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647640" y="2628720"/>
            <a:ext cx="11709360" cy="64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1170936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7640" y="6578280"/>
            <a:ext cx="11709360" cy="1422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424d44"/>
                </a:solidFill>
                <a:latin typeface="Palatino"/>
              </a:rPr>
              <a:t>Click to edit the title text format</a:t>
            </a:r>
            <a:endParaRPr b="0" lang="en-US" sz="75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7640" y="7988040"/>
            <a:ext cx="1170936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1000"/>
          </a:bodyPr>
          <a:p>
            <a:pPr indent="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d6a61"/>
                </a:solidFill>
                <a:latin typeface="Hoefler Text"/>
              </a:rPr>
              <a:t>Click to edit the outline text format</a:t>
            </a:r>
            <a:endParaRPr b="0" i="1" lang="en-US" sz="3200" spc="-1" strike="noStrike">
              <a:solidFill>
                <a:srgbClr val="5d6a61"/>
              </a:solidFill>
              <a:latin typeface="Hoefler Text"/>
            </a:endParaRPr>
          </a:p>
          <a:p>
            <a:pPr lvl="1" algn="ctr">
              <a:lnSpc>
                <a:spcPct val="110000"/>
              </a:lnSpc>
              <a:buClr>
                <a:srgbClr val="5d6a61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d6a61"/>
                </a:solidFill>
                <a:latin typeface="Hoefler Text"/>
              </a:rPr>
              <a:t>Second Outline Level</a:t>
            </a:r>
            <a:endParaRPr b="0" i="1" lang="en-US" sz="3200" spc="-1" strike="noStrike">
              <a:solidFill>
                <a:srgbClr val="5d6a61"/>
              </a:solidFill>
              <a:latin typeface="Hoefler Text"/>
            </a:endParaRPr>
          </a:p>
          <a:p>
            <a:pPr lvl="2" algn="ctr">
              <a:lnSpc>
                <a:spcPct val="110000"/>
              </a:lnSpc>
              <a:buClr>
                <a:srgbClr val="5d6a61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d6a61"/>
                </a:solidFill>
                <a:latin typeface="Hoefler Text"/>
              </a:rPr>
              <a:t>Third Outline Level</a:t>
            </a:r>
            <a:endParaRPr b="0" i="1" lang="en-US" sz="3200" spc="-1" strike="noStrike">
              <a:solidFill>
                <a:srgbClr val="5d6a61"/>
              </a:solidFill>
              <a:latin typeface="Hoefler Text"/>
            </a:endParaRPr>
          </a:p>
          <a:p>
            <a:pPr lvl="3" algn="ctr">
              <a:lnSpc>
                <a:spcPct val="110000"/>
              </a:lnSpc>
              <a:buClr>
                <a:srgbClr val="5d6a61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d6a61"/>
                </a:solidFill>
                <a:latin typeface="Hoefler Text"/>
              </a:rPr>
              <a:t>Fourth Outline Level</a:t>
            </a:r>
            <a:endParaRPr b="0" i="1" lang="en-US" sz="3200" spc="-1" strike="noStrike">
              <a:solidFill>
                <a:srgbClr val="5d6a61"/>
              </a:solidFill>
              <a:latin typeface="Hoefler Text"/>
            </a:endParaRPr>
          </a:p>
          <a:p>
            <a:pPr lvl="4" algn="ctr">
              <a:lnSpc>
                <a:spcPct val="110000"/>
              </a:lnSpc>
              <a:buClr>
                <a:srgbClr val="5d6a61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d6a61"/>
                </a:solidFill>
                <a:latin typeface="Hoefler Text"/>
              </a:rPr>
              <a:t>Fifth Outline Level</a:t>
            </a:r>
            <a:endParaRPr b="0" i="1" lang="en-US" sz="3200" spc="-1" strike="noStrike">
              <a:solidFill>
                <a:srgbClr val="5d6a61"/>
              </a:solidFill>
              <a:latin typeface="Hoefler Text"/>
            </a:endParaRPr>
          </a:p>
          <a:p>
            <a:pPr lvl="5" algn="ctr">
              <a:lnSpc>
                <a:spcPct val="110000"/>
              </a:lnSpc>
              <a:buClr>
                <a:srgbClr val="424d44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d6a61"/>
                </a:solidFill>
                <a:latin typeface="Hoefler Text"/>
              </a:rPr>
              <a:t>Sixth Outline Level</a:t>
            </a:r>
            <a:endParaRPr b="0" i="1" lang="en-US" sz="3200" spc="-1" strike="noStrike">
              <a:solidFill>
                <a:srgbClr val="5d6a61"/>
              </a:solidFill>
              <a:latin typeface="Hoefler Text"/>
            </a:endParaRPr>
          </a:p>
          <a:p>
            <a:pPr lvl="6" algn="ctr">
              <a:lnSpc>
                <a:spcPct val="110000"/>
              </a:lnSpc>
              <a:buClr>
                <a:srgbClr val="424d44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d6a61"/>
                </a:solidFill>
                <a:latin typeface="Hoefler Text"/>
              </a:rPr>
              <a:t>Seventh Outline Level</a:t>
            </a:r>
            <a:endParaRPr b="0" i="1" lang="en-US" sz="3200" spc="-1" strike="noStrike">
              <a:solidFill>
                <a:srgbClr val="5d6a61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body"/>
          </p:nvPr>
        </p:nvSpPr>
        <p:spPr>
          <a:xfrm>
            <a:off x="647640" y="647280"/>
            <a:ext cx="11709360" cy="845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2000"/>
          </a:bodyPr>
          <a:p>
            <a:pPr marL="408960" indent="-408960">
              <a:lnSpc>
                <a:spcPct val="120000"/>
              </a:lnSpc>
              <a:spcBef>
                <a:spcPts val="4700"/>
              </a:spcBef>
              <a:buClr>
                <a:srgbClr val="424d44"/>
              </a:buClr>
              <a:buSzPct val="93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24d44"/>
                </a:solidFill>
                <a:latin typeface="Palatino"/>
              </a:rPr>
              <a:t>Click to edit the outline text format</a:t>
            </a:r>
            <a:endParaRPr b="0" lang="en-US" sz="4300" spc="-1" strike="noStrike">
              <a:solidFill>
                <a:srgbClr val="424d44"/>
              </a:solidFill>
              <a:latin typeface="Palatino"/>
            </a:endParaRPr>
          </a:p>
          <a:p>
            <a:pPr lvl="1" marL="770760" indent="-408600">
              <a:lnSpc>
                <a:spcPct val="120000"/>
              </a:lnSpc>
              <a:spcBef>
                <a:spcPts val="4700"/>
              </a:spcBef>
              <a:buClr>
                <a:srgbClr val="424d44"/>
              </a:buClr>
              <a:buSzPct val="93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24d44"/>
                </a:solidFill>
                <a:latin typeface="Palatino"/>
              </a:rPr>
              <a:t>Second Outline Level</a:t>
            </a:r>
            <a:endParaRPr b="0" lang="en-US" sz="4300" spc="-1" strike="noStrike">
              <a:solidFill>
                <a:srgbClr val="424d44"/>
              </a:solidFill>
              <a:latin typeface="Palatino"/>
            </a:endParaRPr>
          </a:p>
          <a:p>
            <a:pPr lvl="2" marL="1179720" indent="-408960">
              <a:lnSpc>
                <a:spcPct val="120000"/>
              </a:lnSpc>
              <a:spcBef>
                <a:spcPts val="4700"/>
              </a:spcBef>
              <a:buClr>
                <a:srgbClr val="424d44"/>
              </a:buClr>
              <a:buSzPct val="93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24d44"/>
                </a:solidFill>
                <a:latin typeface="Palatino"/>
              </a:rPr>
              <a:t>Third Outline Level</a:t>
            </a:r>
            <a:endParaRPr b="0" lang="en-US" sz="4300" spc="-1" strike="noStrike">
              <a:solidFill>
                <a:srgbClr val="424d44"/>
              </a:solidFill>
              <a:latin typeface="Palatino"/>
            </a:endParaRPr>
          </a:p>
          <a:p>
            <a:pPr lvl="3" marL="1589040" indent="-408960">
              <a:lnSpc>
                <a:spcPct val="120000"/>
              </a:lnSpc>
              <a:spcBef>
                <a:spcPts val="4700"/>
              </a:spcBef>
              <a:buClr>
                <a:srgbClr val="424d44"/>
              </a:buClr>
              <a:buSzPct val="93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24d44"/>
                </a:solidFill>
                <a:latin typeface="Palatino"/>
              </a:rPr>
              <a:t>Fourth Outline Level</a:t>
            </a:r>
            <a:endParaRPr b="0" lang="en-US" sz="4300" spc="-1" strike="noStrike">
              <a:solidFill>
                <a:srgbClr val="424d44"/>
              </a:solidFill>
              <a:latin typeface="Palatino"/>
            </a:endParaRPr>
          </a:p>
          <a:p>
            <a:pPr lvl="4" marL="1998000" indent="-408960">
              <a:lnSpc>
                <a:spcPct val="120000"/>
              </a:lnSpc>
              <a:spcBef>
                <a:spcPts val="4700"/>
              </a:spcBef>
              <a:buClr>
                <a:srgbClr val="424d44"/>
              </a:buClr>
              <a:buSzPct val="93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24d44"/>
                </a:solidFill>
                <a:latin typeface="Palatino"/>
              </a:rPr>
              <a:t>Fifth Outline Level</a:t>
            </a:r>
            <a:endParaRPr b="0" lang="en-US" sz="4300" spc="-1" strike="noStrike">
              <a:solidFill>
                <a:srgbClr val="424d44"/>
              </a:solidFill>
              <a:latin typeface="Palatino"/>
            </a:endParaRPr>
          </a:p>
          <a:p>
            <a:pPr lvl="5" marL="1998000" indent="-408960">
              <a:lnSpc>
                <a:spcPct val="120000"/>
              </a:lnSpc>
              <a:spcBef>
                <a:spcPts val="4700"/>
              </a:spcBef>
              <a:buClr>
                <a:srgbClr val="424d44"/>
              </a:buClr>
              <a:buSzPct val="93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24d44"/>
                </a:solidFill>
                <a:latin typeface="Palatino"/>
              </a:rPr>
              <a:t>Sixth Outline Level</a:t>
            </a:r>
            <a:endParaRPr b="0" lang="en-US" sz="4300" spc="-1" strike="noStrike">
              <a:solidFill>
                <a:srgbClr val="424d44"/>
              </a:solidFill>
              <a:latin typeface="Palatino"/>
            </a:endParaRPr>
          </a:p>
          <a:p>
            <a:pPr lvl="6" marL="1998000" indent="-408960">
              <a:lnSpc>
                <a:spcPct val="120000"/>
              </a:lnSpc>
              <a:spcBef>
                <a:spcPts val="4700"/>
              </a:spcBef>
              <a:buClr>
                <a:srgbClr val="424d44"/>
              </a:buClr>
              <a:buSzPct val="93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24d44"/>
                </a:solidFill>
                <a:latin typeface="Palatino"/>
              </a:rPr>
              <a:t>Seventh Outline Level</a:t>
            </a:r>
            <a:endParaRPr b="0" lang="en-US" sz="43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100" spc="-1" strike="noStrike">
                <a:solidFill>
                  <a:srgbClr val="ffffff"/>
                </a:solidFill>
                <a:latin typeface="Palatino"/>
              </a:rPr>
              <a:t>Click to edit the title text format</a:t>
            </a: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100" spc="-1" strike="noStrike">
                <a:solidFill>
                  <a:srgbClr val="ffffff"/>
                </a:solidFill>
                <a:latin typeface="Palatino"/>
              </a:rPr>
              <a:t>Click to edit the title text format</a:t>
            </a: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647640" y="2628720"/>
            <a:ext cx="1170936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44600" indent="-444600">
              <a:lnSpc>
                <a:spcPct val="120000"/>
              </a:lnSpc>
              <a:spcBef>
                <a:spcPts val="2401"/>
              </a:spcBef>
              <a:buClr>
                <a:srgbClr val="424d44"/>
              </a:buClr>
              <a:buSzPct val="93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d44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  <a:p>
            <a:pPr lvl="1" marL="838080" indent="-444240">
              <a:lnSpc>
                <a:spcPct val="120000"/>
              </a:lnSpc>
              <a:spcBef>
                <a:spcPts val="2401"/>
              </a:spcBef>
              <a:buClr>
                <a:srgbClr val="424d44"/>
              </a:buClr>
              <a:buSzPct val="93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d44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  <a:p>
            <a:pPr lvl="2" marL="1282680" indent="-444600">
              <a:lnSpc>
                <a:spcPct val="120000"/>
              </a:lnSpc>
              <a:spcBef>
                <a:spcPts val="2401"/>
              </a:spcBef>
              <a:buClr>
                <a:srgbClr val="424d44"/>
              </a:buClr>
              <a:buSzPct val="93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d44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  <a:p>
            <a:pPr lvl="3" marL="1727280" indent="-444600">
              <a:lnSpc>
                <a:spcPct val="120000"/>
              </a:lnSpc>
              <a:spcBef>
                <a:spcPts val="2401"/>
              </a:spcBef>
              <a:buClr>
                <a:srgbClr val="424d44"/>
              </a:buClr>
              <a:buSzPct val="93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d44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  <a:p>
            <a:pPr lvl="4" marL="2171880" indent="-444600">
              <a:lnSpc>
                <a:spcPct val="120000"/>
              </a:lnSpc>
              <a:spcBef>
                <a:spcPts val="2401"/>
              </a:spcBef>
              <a:buClr>
                <a:srgbClr val="424d44"/>
              </a:buClr>
              <a:buSzPct val="93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d44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  <a:p>
            <a:pPr lvl="5" marL="2171880" indent="-444600">
              <a:lnSpc>
                <a:spcPct val="120000"/>
              </a:lnSpc>
              <a:spcBef>
                <a:spcPts val="2401"/>
              </a:spcBef>
              <a:buClr>
                <a:srgbClr val="424d44"/>
              </a:buClr>
              <a:buSzPct val="93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d44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  <a:p>
            <a:pPr lvl="6" marL="2171880" indent="-444600">
              <a:lnSpc>
                <a:spcPct val="120000"/>
              </a:lnSpc>
              <a:spcBef>
                <a:spcPts val="2401"/>
              </a:spcBef>
              <a:buClr>
                <a:srgbClr val="424d44"/>
              </a:buClr>
              <a:buSzPct val="93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d44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47640" y="2628720"/>
            <a:ext cx="11709360" cy="450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424d44"/>
                </a:solidFill>
                <a:latin typeface="Palatino"/>
              </a:rPr>
              <a:t>Click to edit the title text format</a:t>
            </a:r>
            <a:endParaRPr b="0" lang="en-US" sz="75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47640" y="6578280"/>
            <a:ext cx="11709360" cy="2692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424d44"/>
                </a:solidFill>
                <a:latin typeface="Palatino"/>
              </a:rPr>
              <a:t>Click to edit the title text format</a:t>
            </a:r>
            <a:endParaRPr b="0" lang="en-US" sz="75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47280" y="647640"/>
            <a:ext cx="5854680" cy="425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424d44"/>
                </a:solidFill>
                <a:latin typeface="Palatino"/>
              </a:rPr>
              <a:t>Click to edit the title text format</a:t>
            </a:r>
            <a:endParaRPr b="0" lang="en-US" sz="75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47280" y="4889520"/>
            <a:ext cx="5854680" cy="421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indent="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24d44"/>
                </a:solidFill>
                <a:latin typeface="Hoefler Text"/>
              </a:rPr>
              <a:t>Click to edit the outline text format</a:t>
            </a:r>
            <a:endParaRPr b="0" i="1" lang="en-US" sz="3200" spc="-1" strike="noStrike">
              <a:solidFill>
                <a:srgbClr val="424d44"/>
              </a:solidFill>
              <a:latin typeface="Hoefler Text"/>
            </a:endParaRPr>
          </a:p>
          <a:p>
            <a:pPr lvl="1" algn="ctr">
              <a:spcBef>
                <a:spcPts val="1199"/>
              </a:spcBef>
              <a:buClr>
                <a:srgbClr val="424d44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24d44"/>
                </a:solidFill>
                <a:latin typeface="Hoefler Text"/>
              </a:rPr>
              <a:t>Second Outline Level</a:t>
            </a:r>
            <a:endParaRPr b="0" i="1" lang="en-US" sz="3200" spc="-1" strike="noStrike">
              <a:solidFill>
                <a:srgbClr val="424d44"/>
              </a:solidFill>
              <a:latin typeface="Hoefler Text"/>
            </a:endParaRPr>
          </a:p>
          <a:p>
            <a:pPr lvl="2" algn="ctr">
              <a:spcBef>
                <a:spcPts val="1199"/>
              </a:spcBef>
              <a:buClr>
                <a:srgbClr val="424d44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24d44"/>
                </a:solidFill>
                <a:latin typeface="Hoefler Text"/>
              </a:rPr>
              <a:t>Third Outline Level</a:t>
            </a:r>
            <a:endParaRPr b="0" i="1" lang="en-US" sz="3200" spc="-1" strike="noStrike">
              <a:solidFill>
                <a:srgbClr val="424d44"/>
              </a:solidFill>
              <a:latin typeface="Hoefler Text"/>
            </a:endParaRPr>
          </a:p>
          <a:p>
            <a:pPr lvl="3" algn="ctr">
              <a:spcBef>
                <a:spcPts val="1199"/>
              </a:spcBef>
              <a:buClr>
                <a:srgbClr val="424d44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24d44"/>
                </a:solidFill>
                <a:latin typeface="Hoefler Text"/>
              </a:rPr>
              <a:t>Fourth Outline Level</a:t>
            </a:r>
            <a:endParaRPr b="0" i="1" lang="en-US" sz="3200" spc="-1" strike="noStrike">
              <a:solidFill>
                <a:srgbClr val="424d44"/>
              </a:solidFill>
              <a:latin typeface="Hoefler Text"/>
            </a:endParaRPr>
          </a:p>
          <a:p>
            <a:pPr lvl="4" algn="ctr">
              <a:spcBef>
                <a:spcPts val="1199"/>
              </a:spcBef>
              <a:buClr>
                <a:srgbClr val="424d44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24d44"/>
                </a:solidFill>
                <a:latin typeface="Hoefler Text"/>
              </a:rPr>
              <a:t>Fifth Outline Level</a:t>
            </a:r>
            <a:endParaRPr b="0" i="1" lang="en-US" sz="3200" spc="-1" strike="noStrike">
              <a:solidFill>
                <a:srgbClr val="424d44"/>
              </a:solidFill>
              <a:latin typeface="Hoefler Text"/>
            </a:endParaRPr>
          </a:p>
          <a:p>
            <a:pPr lvl="5" algn="ctr">
              <a:spcBef>
                <a:spcPts val="1199"/>
              </a:spcBef>
              <a:buClr>
                <a:srgbClr val="424d44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24d44"/>
                </a:solidFill>
                <a:latin typeface="Hoefler Text"/>
              </a:rPr>
              <a:t>Sixth Outline Level</a:t>
            </a:r>
            <a:endParaRPr b="0" i="1" lang="en-US" sz="3200" spc="-1" strike="noStrike">
              <a:solidFill>
                <a:srgbClr val="424d44"/>
              </a:solidFill>
              <a:latin typeface="Hoefler Text"/>
            </a:endParaRPr>
          </a:p>
          <a:p>
            <a:pPr lvl="6" algn="ctr">
              <a:spcBef>
                <a:spcPts val="1199"/>
              </a:spcBef>
              <a:buClr>
                <a:srgbClr val="424d44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24d44"/>
                </a:solidFill>
                <a:latin typeface="Hoefler Text"/>
              </a:rPr>
              <a:t>Seventh Outline Level</a:t>
            </a:r>
            <a:endParaRPr b="0" i="1" lang="en-US" sz="3200" spc="-1" strike="noStrike">
              <a:solidFill>
                <a:srgbClr val="424d44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100" spc="-1" strike="noStrike">
                <a:solidFill>
                  <a:srgbClr val="ffffff"/>
                </a:solidFill>
                <a:latin typeface="Palatino"/>
              </a:rPr>
              <a:t>Click to edit the title text format</a:t>
            </a: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756120" y="2628720"/>
            <a:ext cx="560052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395640" indent="-395640">
              <a:lnSpc>
                <a:spcPct val="120000"/>
              </a:lnSpc>
              <a:spcBef>
                <a:spcPts val="2401"/>
              </a:spcBef>
              <a:buClr>
                <a:srgbClr val="424d44"/>
              </a:buClr>
              <a:buSzPct val="93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d44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  <a:p>
            <a:pPr lvl="1" marL="745560" indent="-395280">
              <a:lnSpc>
                <a:spcPct val="120000"/>
              </a:lnSpc>
              <a:spcBef>
                <a:spcPts val="2401"/>
              </a:spcBef>
              <a:buClr>
                <a:srgbClr val="424d44"/>
              </a:buClr>
              <a:buSzPct val="93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d44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  <a:p>
            <a:pPr lvl="2" marL="1141560" indent="-395640">
              <a:lnSpc>
                <a:spcPct val="120000"/>
              </a:lnSpc>
              <a:spcBef>
                <a:spcPts val="2401"/>
              </a:spcBef>
              <a:buClr>
                <a:srgbClr val="424d44"/>
              </a:buClr>
              <a:buSzPct val="93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d44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  <a:p>
            <a:pPr lvl="3" marL="1537200" indent="-395640">
              <a:lnSpc>
                <a:spcPct val="120000"/>
              </a:lnSpc>
              <a:spcBef>
                <a:spcPts val="2401"/>
              </a:spcBef>
              <a:buClr>
                <a:srgbClr val="424d44"/>
              </a:buClr>
              <a:buSzPct val="93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d44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  <a:p>
            <a:pPr lvl="4" marL="1932840" indent="-395640">
              <a:lnSpc>
                <a:spcPct val="120000"/>
              </a:lnSpc>
              <a:spcBef>
                <a:spcPts val="2401"/>
              </a:spcBef>
              <a:buClr>
                <a:srgbClr val="424d44"/>
              </a:buClr>
              <a:buSzPct val="93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d44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  <a:p>
            <a:pPr lvl="5" marL="1932840" indent="-395640">
              <a:lnSpc>
                <a:spcPct val="120000"/>
              </a:lnSpc>
              <a:spcBef>
                <a:spcPts val="2401"/>
              </a:spcBef>
              <a:buClr>
                <a:srgbClr val="424d44"/>
              </a:buClr>
              <a:buSzPct val="93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d44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  <a:p>
            <a:pPr lvl="6" marL="1932840" indent="-395640">
              <a:lnSpc>
                <a:spcPct val="120000"/>
              </a:lnSpc>
              <a:spcBef>
                <a:spcPts val="2401"/>
              </a:spcBef>
              <a:buClr>
                <a:srgbClr val="424d44"/>
              </a:buClr>
              <a:buSzPct val="93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d44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100" spc="-1" strike="noStrike">
                <a:solidFill>
                  <a:srgbClr val="ffffff"/>
                </a:solidFill>
                <a:latin typeface="Palatino"/>
              </a:rPr>
              <a:t>Click to edit the title text format</a:t>
            </a: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47640" y="2628720"/>
            <a:ext cx="1170936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-444600">
              <a:lnSpc>
                <a:spcPct val="120000"/>
              </a:lnSpc>
              <a:spcBef>
                <a:spcPts val="2401"/>
              </a:spcBef>
              <a:buClr>
                <a:srgbClr val="424d44"/>
              </a:buClr>
              <a:buSzPct val="93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d44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  <a:p>
            <a:pPr lvl="1" marL="838080" indent="-444240">
              <a:lnSpc>
                <a:spcPct val="120000"/>
              </a:lnSpc>
              <a:spcBef>
                <a:spcPts val="2401"/>
              </a:spcBef>
              <a:buClr>
                <a:srgbClr val="424d44"/>
              </a:buClr>
              <a:buSzPct val="93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d44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  <a:p>
            <a:pPr lvl="2" marL="1282680" indent="-444600">
              <a:lnSpc>
                <a:spcPct val="120000"/>
              </a:lnSpc>
              <a:spcBef>
                <a:spcPts val="2401"/>
              </a:spcBef>
              <a:buClr>
                <a:srgbClr val="424d44"/>
              </a:buClr>
              <a:buSzPct val="93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d44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  <a:p>
            <a:pPr lvl="3" marL="1727280" indent="-444600">
              <a:lnSpc>
                <a:spcPct val="120000"/>
              </a:lnSpc>
              <a:spcBef>
                <a:spcPts val="2401"/>
              </a:spcBef>
              <a:buClr>
                <a:srgbClr val="424d44"/>
              </a:buClr>
              <a:buSzPct val="93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d44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  <a:p>
            <a:pPr lvl="4" marL="2171880" indent="-444600">
              <a:lnSpc>
                <a:spcPct val="120000"/>
              </a:lnSpc>
              <a:spcBef>
                <a:spcPts val="2401"/>
              </a:spcBef>
              <a:buClr>
                <a:srgbClr val="424d44"/>
              </a:buClr>
              <a:buSzPct val="93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d44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  <a:p>
            <a:pPr lvl="5" marL="2171880" indent="-444600">
              <a:lnSpc>
                <a:spcPct val="120000"/>
              </a:lnSpc>
              <a:spcBef>
                <a:spcPts val="2401"/>
              </a:spcBef>
              <a:buClr>
                <a:srgbClr val="424d44"/>
              </a:buClr>
              <a:buSzPct val="93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d44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  <a:p>
            <a:pPr lvl="6" marL="2171880" indent="-444600">
              <a:lnSpc>
                <a:spcPct val="120000"/>
              </a:lnSpc>
              <a:spcBef>
                <a:spcPts val="2401"/>
              </a:spcBef>
              <a:buClr>
                <a:srgbClr val="424d44"/>
              </a:buClr>
              <a:buSzPct val="93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d44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100" spc="-1" strike="noStrike">
                <a:solidFill>
                  <a:srgbClr val="ffffff"/>
                </a:solidFill>
                <a:latin typeface="Palatino"/>
              </a:rPr>
              <a:t>Click to edit the title text format</a:t>
            </a: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47640" y="2628720"/>
            <a:ext cx="560088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395640" indent="-395640">
              <a:lnSpc>
                <a:spcPct val="120000"/>
              </a:lnSpc>
              <a:spcBef>
                <a:spcPts val="2401"/>
              </a:spcBef>
              <a:buClr>
                <a:srgbClr val="424d44"/>
              </a:buClr>
              <a:buSzPct val="93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d44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  <a:p>
            <a:pPr lvl="1" marL="745560" indent="-395280">
              <a:lnSpc>
                <a:spcPct val="120000"/>
              </a:lnSpc>
              <a:spcBef>
                <a:spcPts val="2401"/>
              </a:spcBef>
              <a:buClr>
                <a:srgbClr val="424d44"/>
              </a:buClr>
              <a:buSzPct val="93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d44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  <a:p>
            <a:pPr lvl="2" marL="1141560" indent="-395640">
              <a:lnSpc>
                <a:spcPct val="120000"/>
              </a:lnSpc>
              <a:spcBef>
                <a:spcPts val="2401"/>
              </a:spcBef>
              <a:buClr>
                <a:srgbClr val="424d44"/>
              </a:buClr>
              <a:buSzPct val="93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d44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  <a:p>
            <a:pPr lvl="3" marL="1537200" indent="-395640">
              <a:lnSpc>
                <a:spcPct val="120000"/>
              </a:lnSpc>
              <a:spcBef>
                <a:spcPts val="2401"/>
              </a:spcBef>
              <a:buClr>
                <a:srgbClr val="424d44"/>
              </a:buClr>
              <a:buSzPct val="93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d44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  <a:p>
            <a:pPr lvl="4" marL="1932840" indent="-395640">
              <a:lnSpc>
                <a:spcPct val="120000"/>
              </a:lnSpc>
              <a:spcBef>
                <a:spcPts val="2401"/>
              </a:spcBef>
              <a:buClr>
                <a:srgbClr val="424d44"/>
              </a:buClr>
              <a:buSzPct val="93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d44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  <a:p>
            <a:pPr lvl="5" marL="1932840" indent="-395640">
              <a:lnSpc>
                <a:spcPct val="120000"/>
              </a:lnSpc>
              <a:spcBef>
                <a:spcPts val="2401"/>
              </a:spcBef>
              <a:buClr>
                <a:srgbClr val="424d44"/>
              </a:buClr>
              <a:buSzPct val="93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d44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  <a:p>
            <a:pPr lvl="6" marL="1932840" indent="-395640">
              <a:lnSpc>
                <a:spcPct val="120000"/>
              </a:lnSpc>
              <a:spcBef>
                <a:spcPts val="2401"/>
              </a:spcBef>
              <a:buClr>
                <a:srgbClr val="424d44"/>
              </a:buClr>
              <a:buSzPct val="93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d44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100" spc="-1" strike="noStrike">
                <a:solidFill>
                  <a:srgbClr val="ffffff"/>
                </a:solidFill>
                <a:latin typeface="Palatino"/>
              </a:rPr>
              <a:t>Click to edit the title text format</a:t>
            </a: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47640" y="2628720"/>
            <a:ext cx="560088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395640" indent="-395640">
              <a:lnSpc>
                <a:spcPct val="120000"/>
              </a:lnSpc>
              <a:spcBef>
                <a:spcPts val="2401"/>
              </a:spcBef>
              <a:buClr>
                <a:srgbClr val="424d44"/>
              </a:buClr>
              <a:buSzPct val="93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d44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  <a:p>
            <a:pPr lvl="1" marL="745560" indent="-395280">
              <a:lnSpc>
                <a:spcPct val="120000"/>
              </a:lnSpc>
              <a:spcBef>
                <a:spcPts val="2401"/>
              </a:spcBef>
              <a:buClr>
                <a:srgbClr val="424d44"/>
              </a:buClr>
              <a:buSzPct val="93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d44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  <a:p>
            <a:pPr lvl="2" marL="1141560" indent="-395640">
              <a:lnSpc>
                <a:spcPct val="120000"/>
              </a:lnSpc>
              <a:spcBef>
                <a:spcPts val="2401"/>
              </a:spcBef>
              <a:buClr>
                <a:srgbClr val="424d44"/>
              </a:buClr>
              <a:buSzPct val="93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d44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  <a:p>
            <a:pPr lvl="3" marL="1537200" indent="-395640">
              <a:lnSpc>
                <a:spcPct val="120000"/>
              </a:lnSpc>
              <a:spcBef>
                <a:spcPts val="2401"/>
              </a:spcBef>
              <a:buClr>
                <a:srgbClr val="424d44"/>
              </a:buClr>
              <a:buSzPct val="93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d44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  <a:p>
            <a:pPr lvl="4" marL="1932840" indent="-395640">
              <a:lnSpc>
                <a:spcPct val="120000"/>
              </a:lnSpc>
              <a:spcBef>
                <a:spcPts val="2401"/>
              </a:spcBef>
              <a:buClr>
                <a:srgbClr val="424d44"/>
              </a:buClr>
              <a:buSzPct val="93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d44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  <a:p>
            <a:pPr lvl="5" marL="1932840" indent="-395640">
              <a:lnSpc>
                <a:spcPct val="120000"/>
              </a:lnSpc>
              <a:spcBef>
                <a:spcPts val="2401"/>
              </a:spcBef>
              <a:buClr>
                <a:srgbClr val="424d44"/>
              </a:buClr>
              <a:buSzPct val="93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d44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  <a:p>
            <a:pPr lvl="6" marL="1932840" indent="-395640">
              <a:lnSpc>
                <a:spcPct val="120000"/>
              </a:lnSpc>
              <a:spcBef>
                <a:spcPts val="2401"/>
              </a:spcBef>
              <a:buClr>
                <a:srgbClr val="424d44"/>
              </a:buClr>
              <a:buSzPct val="93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d44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" descr=""/>
          <p:cNvPicPr/>
          <p:nvPr/>
        </p:nvPicPr>
        <p:blipFill>
          <a:blip r:embed="rId2"/>
          <a:stretch/>
        </p:blipFill>
        <p:spPr>
          <a:xfrm>
            <a:off x="8508960" y="330120"/>
            <a:ext cx="4165560" cy="6096240"/>
          </a:xfrm>
          <a:prstGeom prst="rect">
            <a:avLst/>
          </a:prstGeom>
          <a:ln w="0">
            <a:noFill/>
          </a:ln>
        </p:spPr>
      </p:pic>
      <p:pic>
        <p:nvPicPr>
          <p:cNvPr id="487" name="" descr=""/>
          <p:cNvPicPr/>
          <p:nvPr/>
        </p:nvPicPr>
        <p:blipFill>
          <a:blip r:embed="rId3"/>
          <a:stretch/>
        </p:blipFill>
        <p:spPr>
          <a:xfrm>
            <a:off x="4419720" y="330120"/>
            <a:ext cx="4165560" cy="6096240"/>
          </a:xfrm>
          <a:prstGeom prst="rect">
            <a:avLst/>
          </a:prstGeom>
          <a:ln w="0">
            <a:noFill/>
          </a:ln>
        </p:spPr>
      </p:pic>
      <p:pic>
        <p:nvPicPr>
          <p:cNvPr id="488" name="" descr=""/>
          <p:cNvPicPr/>
          <p:nvPr/>
        </p:nvPicPr>
        <p:blipFill>
          <a:blip r:embed="rId4"/>
          <a:stretch/>
        </p:blipFill>
        <p:spPr>
          <a:xfrm>
            <a:off x="330120" y="330120"/>
            <a:ext cx="4165560" cy="6096240"/>
          </a:xfrm>
          <a:prstGeom prst="rect">
            <a:avLst/>
          </a:prstGeom>
          <a:ln w="0">
            <a:noFill/>
          </a:ln>
        </p:spPr>
      </p:pic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47640" y="6578280"/>
            <a:ext cx="11709360" cy="1422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424d44"/>
                </a:solidFill>
                <a:latin typeface="TremorITC TT"/>
                <a:ea typeface="TremorITC TT"/>
              </a:rPr>
              <a:t>Goals To Achieve 2011 - 2012</a:t>
            </a:r>
            <a:endParaRPr b="0" lang="en-US" sz="9600" spc="-1" strike="noStrike">
              <a:solidFill>
                <a:srgbClr val="424d44"/>
              </a:solidFill>
              <a:latin typeface="Palatino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47640" y="7988040"/>
            <a:ext cx="1170936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6a61"/>
                </a:solidFill>
                <a:latin typeface="Humana Serif ITC TT-Medium"/>
                <a:ea typeface="Humana Serif ITC TT-Medium"/>
              </a:rPr>
              <a:t>By: Tania Sadiq</a:t>
            </a:r>
            <a:endParaRPr b="0" i="1" lang="en-US" sz="3200" spc="-1" strike="noStrike">
              <a:solidFill>
                <a:srgbClr val="5d6a61"/>
              </a:solidFill>
              <a:latin typeface="Hoefler Text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6a61"/>
                </a:solidFill>
                <a:latin typeface="Humana Serif ITC TT-Medium"/>
                <a:ea typeface="Humana Serif ITC TT-Medium"/>
              </a:rPr>
              <a:t>Class 808</a:t>
            </a:r>
            <a:endParaRPr b="0" i="1" lang="en-US" sz="3200" spc="-1" strike="noStrike">
              <a:solidFill>
                <a:srgbClr val="5d6a61"/>
              </a:solidFill>
              <a:latin typeface="Hoefler Tex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" descr=""/>
          <p:cNvPicPr/>
          <p:nvPr/>
        </p:nvPicPr>
        <p:blipFill>
          <a:blip r:embed="rId2"/>
          <a:stretch/>
        </p:blipFill>
        <p:spPr>
          <a:xfrm>
            <a:off x="0" y="-12600"/>
            <a:ext cx="13088880" cy="981684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100" spc="-1" strike="noStrike">
                <a:solidFill>
                  <a:srgbClr val="86cd4d"/>
                </a:solidFill>
                <a:latin typeface="TremorITC TT"/>
                <a:ea typeface="TremorITC TT"/>
              </a:rPr>
              <a:t>Introduction</a:t>
            </a: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47640" y="2628720"/>
            <a:ext cx="1170936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44600" indent="-444600" algn="just">
              <a:lnSpc>
                <a:spcPct val="120000"/>
              </a:lnSpc>
              <a:spcBef>
                <a:spcPts val="24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2067"/>
                </a:solidFill>
                <a:latin typeface="Humana Serif ITC TT-Medium"/>
                <a:ea typeface="Humana Serif ITC TT-Medium"/>
              </a:rPr>
              <a:t>Welcome to the audience to my project. Today, I’ll be discussing main goals I plan to achieve this year. Here they are in bullet form.</a:t>
            </a: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  <a:p>
            <a:pPr marL="444600" indent="-444600">
              <a:lnSpc>
                <a:spcPct val="120000"/>
              </a:lnSpc>
              <a:spcBef>
                <a:spcPts val="24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2067"/>
                </a:solidFill>
                <a:latin typeface="Humana Serif ITC TT-Medium"/>
                <a:ea typeface="Humana Serif ITC TT-Medium"/>
              </a:rPr>
              <a:t>Wish to be Valedictorian</a:t>
            </a:r>
            <a:endParaRPr b="0" lang="en-US" sz="2400" spc="-1" strike="noStrike">
              <a:solidFill>
                <a:srgbClr val="424d44"/>
              </a:solidFill>
              <a:latin typeface="Palatino"/>
            </a:endParaRPr>
          </a:p>
          <a:p>
            <a:pPr marL="444600" indent="-444600">
              <a:lnSpc>
                <a:spcPct val="120000"/>
              </a:lnSpc>
              <a:spcBef>
                <a:spcPts val="24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2067"/>
                </a:solidFill>
                <a:latin typeface="Humana Serif ITC TT-Medium"/>
                <a:ea typeface="Humana Serif ITC TT-Medium"/>
              </a:rPr>
              <a:t>Pass the SHSAT Test </a:t>
            </a:r>
            <a:endParaRPr b="0" lang="en-US" sz="2400" spc="-1" strike="noStrike">
              <a:solidFill>
                <a:srgbClr val="424d44"/>
              </a:solidFill>
              <a:latin typeface="Palatino"/>
            </a:endParaRPr>
          </a:p>
          <a:p>
            <a:pPr marL="444600" indent="-444600">
              <a:lnSpc>
                <a:spcPct val="120000"/>
              </a:lnSpc>
              <a:spcBef>
                <a:spcPts val="24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2067"/>
                </a:solidFill>
                <a:latin typeface="Humana Serif ITC TT-Medium"/>
                <a:ea typeface="Humana Serif ITC TT-Medium"/>
              </a:rPr>
              <a:t>Get accepted to one of the Specialized High Schools</a:t>
            </a:r>
            <a:endParaRPr b="0" lang="en-US" sz="2400" spc="-1" strike="noStrike">
              <a:solidFill>
                <a:srgbClr val="424d44"/>
              </a:solidFill>
              <a:latin typeface="Palatino"/>
            </a:endParaRPr>
          </a:p>
          <a:p>
            <a:pPr marL="444600" indent="-444600">
              <a:lnSpc>
                <a:spcPct val="120000"/>
              </a:lnSpc>
              <a:spcBef>
                <a:spcPts val="24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2067"/>
                </a:solidFill>
                <a:latin typeface="Humana Serif ITC TT-Medium"/>
                <a:ea typeface="Humana Serif ITC TT-Medium"/>
              </a:rPr>
              <a:t>Get on the Principal’s Honor Roll</a:t>
            </a:r>
            <a:endParaRPr b="0" lang="en-US" sz="2400" spc="-1" strike="noStrike">
              <a:solidFill>
                <a:srgbClr val="424d44"/>
              </a:solidFill>
              <a:latin typeface="Palatino"/>
            </a:endParaRPr>
          </a:p>
          <a:p>
            <a:pPr marL="444600" indent="-444600">
              <a:lnSpc>
                <a:spcPct val="120000"/>
              </a:lnSpc>
              <a:spcBef>
                <a:spcPts val="24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2067"/>
                </a:solidFill>
                <a:latin typeface="Humana Serif ITC TT-Medium"/>
                <a:ea typeface="Humana Serif ITC TT-Medium"/>
              </a:rPr>
              <a:t>Pass all Regents tests (90 or above)</a:t>
            </a:r>
            <a:endParaRPr b="0" lang="en-US" sz="24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020840" cy="9764640"/>
          </a:xfrm>
          <a:prstGeom prst="rect">
            <a:avLst/>
          </a:prstGeom>
          <a:ln w="0">
            <a:noFill/>
          </a:ln>
        </p:spPr>
      </p:pic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155600" y="266760"/>
            <a:ext cx="11709360" cy="203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100" spc="-1" strike="noStrike">
                <a:solidFill>
                  <a:srgbClr val="ffffff"/>
                </a:solidFill>
                <a:latin typeface="TremorITC TT"/>
                <a:ea typeface="TremorITC TT"/>
              </a:rPr>
              <a:t>1. My Wish To Be Valedictorian</a:t>
            </a: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59880" y="2882880"/>
            <a:ext cx="11709720" cy="647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44600" indent="-444600">
              <a:lnSpc>
                <a:spcPct val="120000"/>
              </a:lnSpc>
              <a:spcBef>
                <a:spcPts val="24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8e28"/>
                </a:solidFill>
                <a:latin typeface="Humana Serif ITC TT-Medium"/>
                <a:ea typeface="Humana Serif ITC TT-Medium"/>
              </a:rPr>
              <a:t>As a senior this year of 113, I have numerous goals that I would like to achieve this year. For instance, one of my goals is to become valedictorian this year. To me, it means that you are/have responsibility 100% and receive good grades, including behavior. Ever since 6th grade, I plan that I work and study harder. I also plan that I focus, listen, and reply to questions carefully. </a:t>
            </a:r>
            <a:endParaRPr b="0" lang="en-US" sz="30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" descr=""/>
          <p:cNvPicPr/>
          <p:nvPr/>
        </p:nvPicPr>
        <p:blipFill>
          <a:blip r:embed="rId2"/>
          <a:stretch/>
        </p:blipFill>
        <p:spPr>
          <a:xfrm>
            <a:off x="0" y="25560"/>
            <a:ext cx="12990600" cy="9742320"/>
          </a:xfrm>
          <a:prstGeom prst="rect">
            <a:avLst/>
          </a:prstGeom>
          <a:ln w="0">
            <a:noFill/>
          </a:ln>
        </p:spPr>
      </p:pic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13080" y="151920"/>
            <a:ext cx="1170936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100" spc="-1" strike="noStrike">
                <a:solidFill>
                  <a:srgbClr val="e6e6e6"/>
                </a:solidFill>
                <a:latin typeface="TremorITC TT"/>
                <a:ea typeface="TremorITC TT"/>
              </a:rPr>
              <a:t>Pass The SHSAT Test</a:t>
            </a: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47640" y="2501640"/>
            <a:ext cx="11709360" cy="647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44600" indent="-444600">
              <a:lnSpc>
                <a:spcPct val="120000"/>
              </a:lnSpc>
              <a:spcBef>
                <a:spcPts val="24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Humana Serif ITC TT-Medium"/>
                <a:ea typeface="Humana Serif ITC TT-Medium"/>
              </a:rPr>
              <a:t>This year I’m a graduating senior. It’s time I apply for high school. Most of all, a specialized high school. In order for me to enter a school, for e.x. Stuyvesant, I need to study extra hard and take classes to prepare for this test. </a:t>
            </a: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" descr=""/>
          <p:cNvPicPr/>
          <p:nvPr/>
        </p:nvPicPr>
        <p:blipFill>
          <a:blip r:embed="rId2"/>
          <a:stretch/>
        </p:blipFill>
        <p:spPr>
          <a:xfrm>
            <a:off x="-219240" y="-50760"/>
            <a:ext cx="13435200" cy="9853560"/>
          </a:xfrm>
          <a:prstGeom prst="rect">
            <a:avLst/>
          </a:prstGeom>
          <a:ln w="0">
            <a:noFill/>
          </a:ln>
        </p:spPr>
      </p:pic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7960" y="0"/>
            <a:ext cx="11709360" cy="203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956900"/>
                </a:solidFill>
                <a:latin typeface="TremorITC TT"/>
                <a:ea typeface="TremorITC TT"/>
              </a:rPr>
              <a:t>Being Accepted Into A Specialized HS </a:t>
            </a:r>
            <a:endParaRPr b="0" lang="en-US" sz="70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47640" y="2514600"/>
            <a:ext cx="11709360" cy="375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44600" indent="-444600">
              <a:lnSpc>
                <a:spcPct val="120000"/>
              </a:lnSpc>
              <a:spcBef>
                <a:spcPts val="24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umana Serif ITC TT-Medium"/>
                <a:ea typeface="Humana Serif ITC TT-Medium"/>
              </a:rPr>
              <a:t>My 2nd goal is to get into a Specialized High School. Out of all, I want to get into Stuyvesant High School.  I feel that I’m, a gifted student and is slightly confident that I would get in. Getting into Stuyvesant is my dream. To get into these schools, I plan to study hard and work my best.</a:t>
            </a:r>
            <a:endParaRPr b="0" lang="en-US" sz="30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" descr=""/>
          <p:cNvPicPr/>
          <p:nvPr/>
        </p:nvPicPr>
        <p:blipFill>
          <a:blip r:embed="rId2"/>
          <a:stretch/>
        </p:blipFill>
        <p:spPr>
          <a:xfrm>
            <a:off x="0" y="12600"/>
            <a:ext cx="13004640" cy="9753840"/>
          </a:xfrm>
          <a:prstGeom prst="rect">
            <a:avLst/>
          </a:prstGeom>
          <a:ln w="0">
            <a:noFill/>
          </a:ln>
        </p:spPr>
      </p:pic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891800" y="151920"/>
            <a:ext cx="1170972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100" spc="-1" strike="noStrike">
                <a:solidFill>
                  <a:srgbClr val="558e28"/>
                </a:solidFill>
                <a:latin typeface="TremorITC TT"/>
                <a:ea typeface="TremorITC TT"/>
              </a:rPr>
              <a:t>Principal’s HONOR ROLL</a:t>
            </a: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762120" y="2387520"/>
            <a:ext cx="11709360" cy="647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44600" indent="-444600">
              <a:lnSpc>
                <a:spcPct val="120000"/>
              </a:lnSpc>
              <a:spcBef>
                <a:spcPts val="24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dcc"/>
                </a:solidFill>
                <a:latin typeface="Humana Serif ITC TT-Medium"/>
                <a:ea typeface="Humana Serif ITC TT-Medium"/>
              </a:rPr>
              <a:t>As a regents student, this year I want to be on the principal’s honor roll again. It makes me feel proud of myself. Receiving a 95 or higher makes myself, my family, and teachers know that I am a student who they want. To add on, being on the principal’s honor roll shows that I can do hard work and is able to accomplish the current grade I am in.</a:t>
            </a:r>
            <a:endParaRPr b="0" lang="en-US" sz="32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987360" cy="9740880"/>
          </a:xfrm>
          <a:prstGeom prst="rect">
            <a:avLst/>
          </a:prstGeom>
          <a:ln w="0">
            <a:noFill/>
          </a:ln>
        </p:spPr>
      </p:pic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739880" y="254160"/>
            <a:ext cx="11709360" cy="2031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100" spc="-1" strike="noStrike">
                <a:solidFill>
                  <a:srgbClr val="a8184b"/>
                </a:solidFill>
                <a:latin typeface="TremorITC TT"/>
                <a:ea typeface="TremorITC TT"/>
              </a:rPr>
              <a:t>Pass all of my Regents tests</a:t>
            </a:r>
            <a:endParaRPr b="0" lang="en-US" sz="81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11709360" cy="647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44600" indent="-444600">
              <a:lnSpc>
                <a:spcPct val="120000"/>
              </a:lnSpc>
              <a:spcBef>
                <a:spcPts val="24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8e28"/>
                </a:solidFill>
                <a:latin typeface="Humana Serif ITC TT-Medium"/>
                <a:ea typeface="Humana Serif ITC TT-Medium"/>
              </a:rPr>
              <a:t>My fifth goal is to pass all of my regents tests with at least a 85 or above. I feel that if I can pass all of my regents now, then it would be better because then I won’t have to take it in 11th grade.  Regents may be hard for some but there is no such thing as impossible in my life style. </a:t>
            </a:r>
            <a:endParaRPr b="0" lang="en-US" sz="3000" spc="-1" strike="noStrike">
              <a:solidFill>
                <a:srgbClr val="424d44"/>
              </a:solidFill>
              <a:latin typeface="Palatino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